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5AACD-A40F-4819-95F1-5578DAA3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54D88-ED01-4FD4-A628-A6C6572E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3A750-0E18-4B45-8B10-5B0E2E3E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669C9-1252-4D96-9500-6C2B8D42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1E47C-25FF-4433-8424-12A4E373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B4368-42DC-45A0-AE22-89E6D148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BA2DD-3EB5-4449-B416-EED08FB0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EB21D-D98A-4FB1-8875-00C10305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AB52E-CA81-461A-B47E-F5EFF317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72B1B-97DF-4917-BC2C-6A8D6E69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8A1DE-BAD3-48E2-B2BA-122A3555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DEF22-D271-4EAD-9848-F6521DDC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F3370-D225-46DE-AD9D-9144AF74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79403-C473-4087-8516-028D493A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562EA-3C21-4BDC-A8C6-AC4A64F0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35BAB-1495-495E-A01B-80507D05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B0F85-2E7F-4F0A-B8B7-B42FD1E9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43078-2C39-41BB-8213-C4804986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9D932-79CD-4254-AA1A-6541A154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95F53-BA3C-489D-BBE1-FA7AC8E8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2FF84-8309-4E8A-BDD3-C962E1BB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8476C-2FAE-4C22-A708-1837AE1B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CA0D3-A71E-4D70-AB96-755A481E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DDB87-2CD4-4B7E-B728-2642CBB4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AA5B6-CCBE-4D21-9C1F-2C8967A0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154FE-AE7A-4BC4-9016-03B6E267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5810F-3F70-47DA-B91B-481CBCF6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EB8BB-B19E-4DD8-823B-0CA94AC5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8D800-AB5F-4F76-BBF3-84B52A0F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49144-05F8-4693-8B74-EA566030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2D3F-0678-422F-99C8-0C0A2076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F3586-0CCD-4928-BE90-02F73E28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F22F5-B2AE-4C2B-A6AE-0E0778E6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C33A6-195B-4BFF-89A5-51965460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6A1C5-1416-4107-A452-70D07C68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673CE-D52A-4C77-8C68-DB14ACD1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FB5F9-A8A0-4F0D-A18B-2DB1EB8B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A0F79-4219-4CB7-9F1B-61607652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A9B12-6BA8-4DAC-9AB4-74E8A1C2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E13C0-F11F-413E-A32C-C9D43AEB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39429-000A-4FE8-801D-573C905A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88D6-8332-48DC-89CF-7ED15900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F347A-9CBE-4D50-A138-A426CE7F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E3051-A5D7-4FA2-96F6-6C73C123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D5B58-D583-4406-81E1-F98E1083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09196-5283-458B-8EB6-E8351086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8E97C-D866-4CA9-A836-53AD2916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1441C-A203-4762-A696-2E8C5B4B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01E63-ADF5-45DB-82F4-DAEA7084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5F390-CE33-4380-9BA6-431AFC7D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CD765-0196-48C9-BB5A-8EFF3AA1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428A2-F366-4802-8F83-0310DA2F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4F39-3D47-4EC4-94B0-820B212A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EEF44-FD3F-41AC-BA97-3C3D1C27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8AC90-9852-46A3-A36C-B3C124F4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5982B-9A09-44CA-866E-041CD9BC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92EF8-6DF9-4C85-AFE8-7CA2492C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FEB75-9EEE-41E6-9080-BC70D6A2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1086F-50D0-4E5A-A261-B53480D6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CB3F4-FC90-44D3-A2DE-CA8C8981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8BBD7-1298-477B-B147-51DAD1B9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3E9DCF-2EDA-47FA-83AC-C1314D12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7AC3AB-5FE5-46E7-A52F-77207CA7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976-7DAE-45EA-AB23-17F2CA93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787EAB-BB47-4E39-89BB-FB355431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35FDC8-685B-4B36-AD6E-B3517074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A99FF-5DAE-4ACF-B58A-02894877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6CE40-B0EB-4B2D-B3A8-5F454C95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FED6CC-6CBF-47D9-8A29-DCF0F2C7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91B10-0FD6-495A-871A-6D7535AC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88B65-E21E-4AE1-AD98-9E5A7876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5CCFCC-2E31-4811-875D-7577BFFF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55460-9472-44EE-B2F0-1E862BC9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98F227-0985-413E-AE5E-26C1E570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89F8-F87B-478A-83B2-DA315009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9937BC-81D9-465D-B2E3-29B1B519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B17940-7F91-4214-848A-BA06855E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C6F32-1B2E-46C2-97BD-B86E7C08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240C7-6EB7-45F4-A135-87234D36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8818F-1CEA-4F8A-87AE-B1473A10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302D8F-268C-4928-B165-B10B044C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50A85B-E991-4A58-BB0E-4DD492C5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07344-EE8C-4979-BB69-084DBBA4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29B340-8C51-4D32-8570-BFACF9AD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F5782B-1033-48D6-998B-D5ADBC70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AED-B326-48EE-8669-6FCD1C95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FA0BF1-8398-4C8D-B104-317E0EE1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C75835-FD23-46CE-B060-C26CC7A6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0E5399-BEA1-45D2-B319-EEEA80BD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5A3DA4-553C-49AB-A8D1-43229E7B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6FC50A-3334-430E-9214-B1988563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9D6A92-8896-44FE-85EB-8CEAADF7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F34B83-FAE3-422E-9205-1D17C253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FCBE93-E2B8-4A3A-B07A-5A2E7721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580493-079B-439E-8DD1-E49A7F59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19CA0F-32DD-4F47-97D5-4C88CFC8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FDB-E720-4BB6-B3C4-804EF0E0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EBBFA-C131-475D-A105-34071EA9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20BB20-0E39-4284-A830-5BD5C832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329D3C-DAC1-4DB9-946E-4DEB20A5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1BC6C3-2718-42BF-9C67-F91861C7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D9DF2C-AC8B-4458-B114-592A6057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AD6E84-A459-43F5-86C7-77643985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639C97-5B43-4CD7-9694-9265C250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F75EFD-D4A8-4958-81E9-CC774217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C60EF7-B1A9-4A34-A140-F6329CC0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2AB157-04F2-44AD-8EED-2D8E25F7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B547-AEF4-42B8-9242-2D3CCE2C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8EF938-8050-46BA-9365-97388A88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C54FB6-FEFF-470E-ABA9-037E2EF7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BF8CB-D2DA-4059-A2D9-C1115F52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920017-519C-4640-A9C8-C0103435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402FB0-0D91-41F0-BD0A-5A5F30EF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F0948F-5118-436D-9D98-0C308A87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66F32C-C4C5-47D7-B611-1CD251B3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978D5F-330A-4DD8-A335-C47F6D63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196B90-2A9D-48DF-89F1-3380448A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E08E4A-8591-4680-AD97-1431740D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B542-1104-41CD-984B-939BEC40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1E38BE-D720-4B91-B150-7261F394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C86DE1-5897-431B-BB0F-C2AA5EF7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BCA60D-E6A7-4450-89C8-C60BFCD5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A7576E-4729-4482-8CF4-483DCEF4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B272F3-2FD3-41B3-8EC6-5FCAADD0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A5F7AE-3037-4E6F-8B8E-74E8A171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1FAD1C-2045-430D-824C-FED69D61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F390C5-9186-4DB8-8AD6-34E21A9F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48918B-BF59-4E23-8ECB-3F2ED3F3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88019C-DCA7-457C-AF6E-51EDFDC3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4D9-1E38-424C-87B4-7A29D78D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F1883D-F2D9-4411-A3F9-23BF06DA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646CB2-74CD-48D8-BF95-08286BE0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2F0AF6-367E-4A8C-BBC5-A89C0A12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599BD4-D7D4-406C-A281-35C79B20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F06FD4-C67B-431B-9627-20953EF5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9F8B01-0FE2-40EE-A375-14D2D43B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A9A6CD-936A-4FC1-99F3-44217B5C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C90B5C-D08B-4DE2-B088-C72F3FE9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34EFD2-096D-49C7-8E55-B0E690B0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0EC79E-85C4-4D7F-B124-DD2DDA4C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EBB7-B606-4832-AD41-74ED61C7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20F792-9364-4916-8BB1-A11946E2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2A98BF-1F7F-48A9-B828-9405F4B8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957C44-E05A-4E8C-8AA2-1644CA95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61F6CE-F1A4-47C7-B34B-74A01D41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C832B2-7387-4653-BED7-9A206829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7237AC-ED36-44B8-BEE0-DEEE575F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8012CB-A7AA-4E3F-900E-B252B8D4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56D2D1-31AA-43BD-9054-C3667AF2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7F5434-535C-4601-A058-B3F38EB2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55EE94-988A-4D78-AECC-69F7B055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19F2-2C9A-4F39-A266-222D0D2E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D7B46C-6ACF-4CC3-8550-2F196C1B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AE9772-212B-4E9E-ADBA-C2C1E47D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C36F12-D5A0-495E-9895-A0978E4E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F30767-EEFA-4711-900C-C65892DB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30EB30-0131-41EA-BD0B-2C0D52F8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2DEF60-3028-4F55-AC68-4ED410F1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8656E2-3D7C-4BD6-9057-9ECB027C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9B87FA-57DB-458D-B292-A30B3A84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6F354B-643F-47AD-A423-EB410968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24666C-0DBC-4A93-8F87-44592DD8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B34C-6056-48D5-82C6-03C0EBB5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9B9B24-9414-40F2-A8C4-B82CD491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1A94CC-AF65-4D7B-8FCD-75B12262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95F0B6-D254-4916-95E1-F02781D7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D3F0DF-BA8C-4EC3-A59A-B719CC49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5C4D95-3874-4E28-9AA9-C6AF111D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0907B4-CC4E-4B6F-A516-1CF7518F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46B6D2-71C6-41A5-BAA6-2B7B7C7D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EBC2DC-E16B-4D63-9EC6-CBE04C25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5E6CB2-8473-4A0D-A705-9756016B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9CFABE-78CF-4EB5-96E5-942782B9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EFC9-BD16-472A-9697-4F45973A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8728E6-8B21-491F-ABB9-405AB9F5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60CADB-A557-4969-A00E-DA84F23B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8F3CDD-D675-4E36-9BE7-B1A95070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5185F3-1990-471A-9B76-09E593D3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618E61-C0C7-43F6-A3EE-942778D0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CC2C71-3A20-4051-A30D-5999B35F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93AD75-EE3E-42B3-8E1B-70775DE1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32B2BB-CCF4-4F6D-A833-933BF8A8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E21182-37F4-44D7-BE15-569EDCA0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2FAEF6-EDE8-4F9C-BF0A-8326196C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F880-50CC-4999-BE8B-3822271D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47B04A-5C33-487A-B247-E9CD5A95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326371-7770-4674-B629-5E9BB84C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21FC13-0190-426D-BF27-D1AA82F7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270F43-48E0-4867-A982-6B7BDA21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AA44D3-1BE2-43CB-BFAD-6A803707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C9D8BD-35AD-43C3-9AE9-239DCFDF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E92814-5635-4A22-BD2F-1EE57F26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F4AF58-D533-4E8A-8AAD-14C6F2E8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DB9A62-A0D0-41AA-ABF1-4B030994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90BE8B-9BA0-4B37-9998-40921A00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B373-50B3-49EB-BFE5-18994B42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F81D66-B53A-4A1C-AA78-97D6E688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B755AF-C3BE-41A1-9EC7-DD956064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1A571C-1B8F-4B52-AE3D-A4C74D2B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496879-2FF9-4DA1-B10E-9FABD097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882815-717B-4766-AA7B-5D09DD88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0BBA01-B672-4A53-9B7A-46747D7A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D70DDC-730F-41F9-A98B-B49701C2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D35602-BCC3-42F7-979A-30318FC3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3CABBF-0E03-4D5D-9CCA-173052A9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E7A9-882A-4CF0-9E68-DE944388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533C-C82C-4919-AA74-DA35DAF9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9FAE-204E-45EA-86A9-BD5AE165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F97D-AF54-45E7-948E-0DF21159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AF92-7EDF-4714-96D6-1F4ABE1E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C5AF-19ED-4DB3-8493-E67DF4A8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7E35-D67B-46BE-BEB7-9DCF6B92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1E6E-FC27-49E3-8E86-A0C3AEDA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C197A-A88E-477A-A728-9D4D7D79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2E49-71D8-4B2A-A6B9-856B7CF8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130E7-2D63-42BC-8C81-D9F1A092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8AD71-4B41-4563-ADF4-9102CFC1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2F80D-B151-4A11-A51A-3B8BF155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52A99-F088-4836-924A-06E4469E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FD46D-5E39-4726-BACA-6066008B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7CC5B-800B-4DE2-958B-58E516B8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25C76-F419-4156-97CC-8F9B8024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2749-8982-42C9-A8FB-ED2FFFD1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3F6DD-43BB-465A-8C6A-5C85530D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86BAA-46D8-4604-837F-02997CBD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BB130-0F6C-4EA4-BA28-3815B66B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8E998-A491-4380-B20E-F5734B62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DB3BF-C20E-4C8F-9302-9AB2DF14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1BEF4-827D-4F1F-BCC4-9D071812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85A17-82DE-4E3C-8793-1F767FAD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C3B24-B341-4DA5-B73D-95D7F437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85BB5-6821-435C-8C75-2EB5DAE3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0F117-C4EC-4D9B-9501-DCEF9052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935A7-414F-4356-8C2E-CAFDB7A2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A55FE-B2F8-4207-8769-A8BF7660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C0CB1-A8BD-43E6-8CB6-3B533D6A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685C7-75C8-4330-8433-80D1C825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780ED-F58D-45E5-ABF5-F006F66C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C346D-E04B-4309-AFD6-3CB0DFDA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C794D-07EC-4276-BC8B-26CCA018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46DEF-31FC-4B47-AE66-DEA85997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B172C-C8C3-46C4-B3C1-2F79814B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4DE57-510A-4DB0-A818-867545DC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78D74-3C13-42BC-8CEE-F3D25EAB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DD250-FA6D-4F14-B1E6-D0A2D21D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39E9D-98F2-4DA5-9F59-ED7D1498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1744E-A753-4198-84F0-0A7CEBCF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4AD56-D870-41BD-B20B-28637B85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2CE8A-22C8-4E7F-AE0C-32334701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FD010-4316-4930-B31D-16172235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7A717-9765-4BFF-BA8B-89A8CCF0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BC3A9-5C05-443C-BBCE-1C51E333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E5920-B062-4B50-9300-7DB31BF1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3EBF5-D30E-409E-BB76-B1FE0E26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39833-7F18-4EA3-BC4E-44BD818F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D6F2F-EACE-4D6F-9E62-4D291650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4C100-C707-40D8-B5C7-81B20576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D8054-924A-4D3E-B84C-8FC51894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9156B-D86B-45A9-998A-1A6652B9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D799A-5E60-40F0-88BB-4BB4BDF9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FB3C6-D970-4635-BA3B-DDD4B031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ADDC0-4012-4CCE-A9FF-DCCD13EC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01717-3A8A-4787-95BF-40167606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4FDEF-8482-463C-BD10-98DB669D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2DF37-F3CB-4875-958F-A619AD58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1F3EB-04C4-4DE3-A329-FB530219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55C51-EAAB-4A9C-AD8A-633B20F8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D1CAE-242C-45C2-A504-2330FFB8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60D46-8058-404C-8755-86D16E1E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BDD93-ABE7-4B60-BBB2-EE4CD7EF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14C60-FB44-4CB1-B12C-23DBEC04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A9EA9-9469-40BB-A45A-2074F673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2AA08-B657-4E54-B09F-B15B5ADF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8565F-0FCE-4CE0-A478-272C48B8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00B7F-8222-457C-9506-EF369CF3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06681-65EC-45AB-A12E-CAF97D43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4754-45AD-4590-874D-584A3E1413B9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3074-6994-4220-B334-6B7A1866A6CB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D3A4-34FD-4B91-B105-9A8F0CF5D94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FEFF-6DA7-4E50-891E-5F51DA040950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9C13-59BA-430B-B87F-418B94794C6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9BAE-791C-49B3-B1AE-60390CB7114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8F16-EEA0-49A4-AAB0-C2D33D6109E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4234-C967-453C-A063-66A6886E29E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7477-C38D-4275-9B0F-D2999DDBEA0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0338-5B8E-41DF-8988-0C647FC6EB5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A796-3A2A-43AD-88AD-C781C63BCEF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6129-BF81-4D3E-8D49-1278584D438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1D2B-4B69-408D-8A8D-1DFC8CBEBCC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F2D6-B6D7-4890-9B76-C2C9F2A9DD9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6449-DAEF-4636-99E6-DC10EE3AC74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27C4-31D8-496F-A341-4D26DC81E94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52D2-459B-4A4F-AB55-42D36DD9521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BD09-C5EA-40E6-A89B-9681C348D8D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3F72-09D4-4E39-9EAF-1B99FB383E1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E3DB-C725-4972-A959-B0407687F77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C896-5319-4E0E-B836-D9F32FAAB095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11B1-D58B-494F-8030-E0669AA405F9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A57E-AB16-49B5-B343-DFDA8763530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2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3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5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6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7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89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六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0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标题 1"/>
          <p:cNvSpPr/>
          <p:nvPr/>
        </p:nvSpPr>
        <p:spPr>
          <a:xfrm>
            <a:off x="500040" y="1814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纳税与折扣</a:t>
            </a:r>
            <a:endParaRPr b="1" lang="en-US" sz="5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4"/>
          <p:cNvSpPr/>
          <p:nvPr/>
        </p:nvSpPr>
        <p:spPr>
          <a:xfrm>
            <a:off x="4386240" y="1574640"/>
            <a:ext cx="426240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1  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欢乐农家游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百分数（二）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28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29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30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31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2" name="矩形 19"/>
          <p:cNvSpPr/>
          <p:nvPr/>
        </p:nvSpPr>
        <p:spPr>
          <a:xfrm>
            <a:off x="963720" y="123336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50000"/>
              </a:lnSpc>
              <a:tabLst>
                <a:tab algn="l" pos="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一、商店对某种商品进行调价，按原售价的八折出售，此时这种商品的利润率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如果这种商品的进价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那么原售价是多少元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1673280" y="3470400"/>
            <a:ext cx="650880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80×10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6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68÷80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1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原售价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98440" y="2060640"/>
            <a:ext cx="71694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灵活解决纳税、折扣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解决特殊规定的纳税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解决多重折扣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解决生活中的纳税、折扣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963720" y="152100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、填表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4" name="Picture 10" descr=""/>
          <p:cNvPicPr/>
          <p:nvPr/>
        </p:nvPicPr>
        <p:blipFill>
          <a:blip r:embed="rId2"/>
          <a:stretch/>
        </p:blipFill>
        <p:spPr>
          <a:xfrm>
            <a:off x="1776240" y="2311560"/>
            <a:ext cx="5677200" cy="3276360"/>
          </a:xfrm>
          <a:prstGeom prst="rect">
            <a:avLst/>
          </a:prstGeom>
          <a:ln w="0">
            <a:noFill/>
          </a:ln>
        </p:spPr>
      </p:pic>
      <p:sp>
        <p:nvSpPr>
          <p:cNvPr id="1005" name="矩形 10"/>
          <p:cNvSpPr/>
          <p:nvPr/>
        </p:nvSpPr>
        <p:spPr>
          <a:xfrm>
            <a:off x="5264280" y="3213000"/>
            <a:ext cx="94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.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6" name="矩形 11"/>
          <p:cNvSpPr/>
          <p:nvPr/>
        </p:nvSpPr>
        <p:spPr>
          <a:xfrm>
            <a:off x="3632040" y="4041720"/>
            <a:ext cx="9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7" name="矩形 12"/>
          <p:cNvSpPr/>
          <p:nvPr/>
        </p:nvSpPr>
        <p:spPr>
          <a:xfrm>
            <a:off x="6507000" y="4834080"/>
            <a:ext cx="9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%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Picture 2" descr=""/>
          <p:cNvPicPr/>
          <p:nvPr/>
        </p:nvPicPr>
        <p:blipFill>
          <a:blip r:embed="rId1"/>
          <a:stretch/>
        </p:blipFill>
        <p:spPr>
          <a:xfrm>
            <a:off x="1743120" y="1700280"/>
            <a:ext cx="5676840" cy="3857400"/>
          </a:xfrm>
          <a:prstGeom prst="rect">
            <a:avLst/>
          </a:prstGeom>
          <a:ln w="0">
            <a:noFill/>
          </a:ln>
        </p:spPr>
      </p:pic>
      <p:sp>
        <p:nvSpPr>
          <p:cNvPr id="1009" name="矩形 2"/>
          <p:cNvSpPr/>
          <p:nvPr/>
        </p:nvSpPr>
        <p:spPr>
          <a:xfrm>
            <a:off x="4078440" y="2554200"/>
            <a:ext cx="94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64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0" name="矩形 3"/>
          <p:cNvSpPr/>
          <p:nvPr/>
        </p:nvSpPr>
        <p:spPr>
          <a:xfrm>
            <a:off x="6202440" y="2554200"/>
            <a:ext cx="94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6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1" name="矩形 4"/>
          <p:cNvSpPr/>
          <p:nvPr/>
        </p:nvSpPr>
        <p:spPr>
          <a:xfrm>
            <a:off x="2843280" y="3306600"/>
            <a:ext cx="94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0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2" name="矩形 5"/>
          <p:cNvSpPr/>
          <p:nvPr/>
        </p:nvSpPr>
        <p:spPr>
          <a:xfrm>
            <a:off x="6202440" y="3306600"/>
            <a:ext cx="94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3" name="矩形 6"/>
          <p:cNvSpPr/>
          <p:nvPr/>
        </p:nvSpPr>
        <p:spPr>
          <a:xfrm>
            <a:off x="5008680" y="4054320"/>
            <a:ext cx="127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七五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4" name="矩形 7"/>
          <p:cNvSpPr/>
          <p:nvPr/>
        </p:nvSpPr>
        <p:spPr>
          <a:xfrm>
            <a:off x="6202440" y="4054320"/>
            <a:ext cx="94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0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5" name="矩形 8"/>
          <p:cNvSpPr/>
          <p:nvPr/>
        </p:nvSpPr>
        <p:spPr>
          <a:xfrm>
            <a:off x="2841480" y="4797360"/>
            <a:ext cx="9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40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6" name="矩形 9"/>
          <p:cNvSpPr/>
          <p:nvPr/>
        </p:nvSpPr>
        <p:spPr>
          <a:xfrm>
            <a:off x="4078440" y="4821120"/>
            <a:ext cx="94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11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Box 1"/>
          <p:cNvSpPr/>
          <p:nvPr/>
        </p:nvSpPr>
        <p:spPr>
          <a:xfrm>
            <a:off x="880920" y="1254240"/>
            <a:ext cx="73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、笑笑的妈妈月工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爸爸月工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若个人月工资收入超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5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的部分，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税率缴纳个人所得税，则他们各应缴纳个人所得税多少元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8" name="矩形 6"/>
          <p:cNvSpPr/>
          <p:nvPr/>
        </p:nvSpPr>
        <p:spPr>
          <a:xfrm>
            <a:off x="2390760" y="3465360"/>
            <a:ext cx="459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4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500)×3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46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500)×3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3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妈妈应缴纳个人所得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，  爸爸应缴纳个人所得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矩形 10"/>
          <p:cNvSpPr/>
          <p:nvPr/>
        </p:nvSpPr>
        <p:spPr>
          <a:xfrm>
            <a:off x="954000" y="126828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、萱萱到书店去买词典，打八折后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。由于词典有些破损，售货员按原价打六折卖给了萱萱。萱萱买这本词典花了多少元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0" name="矩形 4"/>
          <p:cNvSpPr/>
          <p:nvPr/>
        </p:nvSpPr>
        <p:spPr>
          <a:xfrm>
            <a:off x="1663560" y="3465360"/>
            <a:ext cx="650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6÷80%×60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7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萱萱买这本词典花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矩形 1"/>
          <p:cNvSpPr/>
          <p:nvPr/>
        </p:nvSpPr>
        <p:spPr>
          <a:xfrm>
            <a:off x="971640" y="130500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446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、解决问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712800" indent="-446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李红准备从银行给爷爷汇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按规定银行需收取汇款额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为汇费，李红一共要付款多少钱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2" name="矩形 2"/>
          <p:cNvSpPr/>
          <p:nvPr/>
        </p:nvSpPr>
        <p:spPr>
          <a:xfrm>
            <a:off x="1297080" y="3789360"/>
            <a:ext cx="70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00×1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3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李红一共要付款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钱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矩形 1"/>
          <p:cNvSpPr/>
          <p:nvPr/>
        </p:nvSpPr>
        <p:spPr>
          <a:xfrm>
            <a:off x="1298520" y="3681360"/>
            <a:ext cx="727236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甲商店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×200×90%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160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乙商店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×200×85%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40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丙商店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0÷(9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×(9×20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160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160&gt;2040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去乙商店购买比较合算。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4" name="矩形 2"/>
          <p:cNvSpPr/>
          <p:nvPr/>
        </p:nvSpPr>
        <p:spPr>
          <a:xfrm>
            <a:off x="992160" y="1339920"/>
            <a:ext cx="720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361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某单位要购买一些文具捐给灾区小朋友，其中需要购买单价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的钢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支，去哪家商店购买比较合算？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361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商店：一律打九折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361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乙商店：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打八五折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361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丙商店：买九送一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矩形 10"/>
          <p:cNvSpPr/>
          <p:nvPr/>
        </p:nvSpPr>
        <p:spPr>
          <a:xfrm>
            <a:off x="971640" y="123336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王叔叔要买一套房子，房子的售价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元。若一次性付款，则有九五折的优惠。买房时还需缴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契税。王叔叔一次性付款要付多少万元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1547640" y="3471840"/>
            <a:ext cx="650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×95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8.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万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8.5×(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.5%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8.927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万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王叔叔一次性付款要付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8.927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万元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/>
  <dc:description/>
  <dc:language>en-US</dc:language>
  <cp:lastModifiedBy>相忘于江湖</cp:lastModifiedBy>
  <dcterms:modified xsi:type="dcterms:W3CDTF">2018-01-07T08:22:51Z</dcterms:modified>
  <cp:revision>15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